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gif" ContentType="image/gif"/>
  <Override PartName="/ppt/media/image13.gif" ContentType="image/gif"/>
  <Override PartName="/ppt/media/image8.gif" ContentType="image/gif"/>
  <Override PartName="/ppt/media/image12.gif" ContentType="image/gif"/>
  <Override PartName="/ppt/media/image7.gif" ContentType="image/gif"/>
  <Override PartName="/ppt/media/image11.gif" ContentType="image/gif"/>
  <Override PartName="/ppt/media/image6.gif" ContentType="image/gif"/>
  <Override PartName="/ppt/media/image20.jpeg" ContentType="image/jpeg"/>
  <Override PartName="/ppt/media/image14.gif" ContentType="image/gif"/>
  <Override PartName="/ppt/media/image19.gif" ContentType="image/gif"/>
  <Override PartName="/ppt/media/image1.gif" ContentType="image/gif"/>
  <Override PartName="/ppt/media/image17.jpeg" ContentType="image/jpeg"/>
  <Override PartName="/ppt/media/image5.gif" ContentType="image/gif"/>
  <Override PartName="/ppt/media/image10.gif" ContentType="image/gif"/>
  <Override PartName="/ppt/media/image16.gif" ContentType="image/gif"/>
  <Override PartName="/ppt/media/image18.png" ContentType="image/png"/>
  <Override PartName="/ppt/media/image15.gif" ContentType="image/gif"/>
  <Override PartName="/ppt/media/image2.gif" ContentType="image/gif"/>
  <Override PartName="/ppt/media/image3.gif" ContentType="image/gif"/>
  <Override PartName="/ppt/media/image4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2FC6-62FC-4E45-AF30-54A803633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3705-377F-4B0E-8BE7-96F3E00EC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FC21-6297-4B42-BDD2-886B285CE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7651-A51A-4F7B-8619-8FD2DB47F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577A9-0BE2-451A-8A82-00281A4B5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92FD3-57A7-4BE3-8F9C-96A8B5AA8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6AB25-F4B3-4263-9CBC-16A94949D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CBB07-FBF0-4EB4-BD29-D37CBEE38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DBDC3-36C5-44E3-971C-94D0BDF6E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1D929-450F-4A46-AB9F-7901A05AD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4F035-D599-4F66-89BE-17003F537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45BE-3145-4948-8702-6F98D8C14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85B88-F536-40BA-B04B-3488EFB6F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2442F-C809-4B21-A79A-5873B27AC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7607E-E0EB-45B2-AE86-D1EA96419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1BB75-1298-4192-95A5-717289232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48E99-99B0-4315-85F2-A0D5836A7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7D81-DA5B-4A7F-8B3A-63C8F306A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327C-B54C-46BC-993A-CC2D7A267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4D17-F43A-4AAF-A985-95D268E20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8F3F-FCA7-48A9-832C-422925515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880D-72BA-434E-946F-13294C682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BEBE-0081-4476-B109-AB1CDDCE1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B9D5-7AC8-440B-8947-F2BAFF242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6C77A-DDE4-4BFE-B8D2-9C0383CDA63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FE890-71B5-40F3-BE40-004635B6229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image" Target="../media/image15.gif"/><Relationship Id="rId4" Type="http://schemas.openxmlformats.org/officeDocument/2006/relationships/image" Target="../media/image16.gif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image" Target="../media/image6.gif"/><Relationship Id="rId5" Type="http://schemas.openxmlformats.org/officeDocument/2006/relationships/image" Target="../media/image7.gif"/><Relationship Id="rId6" Type="http://schemas.openxmlformats.org/officeDocument/2006/relationships/image" Target="../media/image8.gif"/><Relationship Id="rId7" Type="http://schemas.openxmlformats.org/officeDocument/2006/relationships/image" Target="../media/image9.gif"/><Relationship Id="rId8" Type="http://schemas.openxmlformats.org/officeDocument/2006/relationships/image" Target="../media/image10.gif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24000" y="1267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Урок по русскому языку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в 5 класс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одготовила учитель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агурная Е.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014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324000" y="3357720"/>
            <a:ext cx="3333600" cy="333360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7524720" y="333360"/>
            <a:ext cx="107964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ff"/>
                </a:solidFill>
                <a:latin typeface="Arial"/>
              </a:rPr>
              <a:t>Выпишите предложение и сделайте полный синтаксический разбор.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Он лечит больные деревья.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7020000" y="4581360"/>
            <a:ext cx="194472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ff"/>
                </a:solidFill>
                <a:latin typeface="Arial"/>
              </a:rPr>
              <a:t>Проверка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Он лечит больные деревья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Предложение простое, повествовательное, невосклицательное, распространенное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84360" y="2349360"/>
            <a:ext cx="5745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476360" y="2349360"/>
            <a:ext cx="15829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476360" y="2492280"/>
            <a:ext cx="15829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012000" y="2421000"/>
            <a:ext cx="2887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443640" y="2421000"/>
            <a:ext cx="28908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877080" y="2421000"/>
            <a:ext cx="3589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380360" y="2421000"/>
            <a:ext cx="2872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885080" y="2421000"/>
            <a:ext cx="358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348000" y="2349360"/>
            <a:ext cx="2401920" cy="189000"/>
          </a:xfrm>
          <a:custGeom>
            <a:avLst/>
            <a:gdLst/>
            <a:ahLst/>
            <a:rect l="l" t="t" r="r" b="b"/>
            <a:pathLst>
              <a:path w="1513" h="119">
                <a:moveTo>
                  <a:pt x="0" y="70"/>
                </a:moveTo>
                <a:cubicBezTo>
                  <a:pt x="54" y="89"/>
                  <a:pt x="56" y="20"/>
                  <a:pt x="108" y="0"/>
                </a:cubicBezTo>
                <a:cubicBezTo>
                  <a:pt x="135" y="2"/>
                  <a:pt x="163" y="0"/>
                  <a:pt x="189" y="6"/>
                </a:cubicBezTo>
                <a:cubicBezTo>
                  <a:pt x="201" y="9"/>
                  <a:pt x="229" y="65"/>
                  <a:pt x="232" y="70"/>
                </a:cubicBezTo>
                <a:cubicBezTo>
                  <a:pt x="236" y="76"/>
                  <a:pt x="280" y="89"/>
                  <a:pt x="286" y="92"/>
                </a:cubicBezTo>
                <a:cubicBezTo>
                  <a:pt x="324" y="90"/>
                  <a:pt x="363" y="97"/>
                  <a:pt x="399" y="87"/>
                </a:cubicBezTo>
                <a:cubicBezTo>
                  <a:pt x="412" y="83"/>
                  <a:pt x="413" y="65"/>
                  <a:pt x="420" y="54"/>
                </a:cubicBezTo>
                <a:cubicBezTo>
                  <a:pt x="432" y="35"/>
                  <a:pt x="441" y="29"/>
                  <a:pt x="463" y="22"/>
                </a:cubicBezTo>
                <a:cubicBezTo>
                  <a:pt x="559" y="30"/>
                  <a:pt x="496" y="19"/>
                  <a:pt x="550" y="54"/>
                </a:cubicBezTo>
                <a:cubicBezTo>
                  <a:pt x="584" y="108"/>
                  <a:pt x="586" y="102"/>
                  <a:pt x="652" y="119"/>
                </a:cubicBezTo>
                <a:cubicBezTo>
                  <a:pt x="690" y="117"/>
                  <a:pt x="728" y="118"/>
                  <a:pt x="765" y="113"/>
                </a:cubicBezTo>
                <a:cubicBezTo>
                  <a:pt x="782" y="111"/>
                  <a:pt x="798" y="77"/>
                  <a:pt x="803" y="70"/>
                </a:cubicBezTo>
                <a:cubicBezTo>
                  <a:pt x="818" y="48"/>
                  <a:pt x="835" y="38"/>
                  <a:pt x="856" y="22"/>
                </a:cubicBezTo>
                <a:cubicBezTo>
                  <a:pt x="914" y="24"/>
                  <a:pt x="972" y="19"/>
                  <a:pt x="1029" y="27"/>
                </a:cubicBezTo>
                <a:cubicBezTo>
                  <a:pt x="1043" y="29"/>
                  <a:pt x="1039" y="55"/>
                  <a:pt x="1050" y="65"/>
                </a:cubicBezTo>
                <a:cubicBezTo>
                  <a:pt x="1078" y="90"/>
                  <a:pt x="1100" y="97"/>
                  <a:pt x="1136" y="103"/>
                </a:cubicBezTo>
                <a:cubicBezTo>
                  <a:pt x="1167" y="101"/>
                  <a:pt x="1198" y="102"/>
                  <a:pt x="1228" y="97"/>
                </a:cubicBezTo>
                <a:cubicBezTo>
                  <a:pt x="1251" y="94"/>
                  <a:pt x="1254" y="64"/>
                  <a:pt x="1265" y="49"/>
                </a:cubicBezTo>
                <a:cubicBezTo>
                  <a:pt x="1278" y="31"/>
                  <a:pt x="1295" y="28"/>
                  <a:pt x="1314" y="22"/>
                </a:cubicBezTo>
                <a:cubicBezTo>
                  <a:pt x="1366" y="24"/>
                  <a:pt x="1418" y="24"/>
                  <a:pt x="1470" y="27"/>
                </a:cubicBezTo>
                <a:cubicBezTo>
                  <a:pt x="1493" y="28"/>
                  <a:pt x="1513" y="45"/>
                  <a:pt x="1513" y="70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84360" y="1484280"/>
            <a:ext cx="574560" cy="228600"/>
          </a:xfrm>
          <a:custGeom>
            <a:avLst/>
            <a:gdLst/>
            <a:ahLst/>
            <a:rect l="l" t="t" r="r" b="b"/>
            <a:pathLst>
              <a:path w="362" h="144">
                <a:moveTo>
                  <a:pt x="0" y="68"/>
                </a:moveTo>
                <a:cubicBezTo>
                  <a:pt x="11" y="129"/>
                  <a:pt x="24" y="112"/>
                  <a:pt x="92" y="106"/>
                </a:cubicBezTo>
                <a:cubicBezTo>
                  <a:pt x="121" y="51"/>
                  <a:pt x="83" y="129"/>
                  <a:pt x="108" y="9"/>
                </a:cubicBezTo>
                <a:cubicBezTo>
                  <a:pt x="110" y="0"/>
                  <a:pt x="111" y="27"/>
                  <a:pt x="113" y="36"/>
                </a:cubicBezTo>
                <a:cubicBezTo>
                  <a:pt x="115" y="43"/>
                  <a:pt x="117" y="51"/>
                  <a:pt x="119" y="58"/>
                </a:cubicBezTo>
                <a:cubicBezTo>
                  <a:pt x="127" y="95"/>
                  <a:pt x="124" y="110"/>
                  <a:pt x="162" y="122"/>
                </a:cubicBezTo>
                <a:cubicBezTo>
                  <a:pt x="186" y="138"/>
                  <a:pt x="190" y="132"/>
                  <a:pt x="210" y="112"/>
                </a:cubicBezTo>
                <a:cubicBezTo>
                  <a:pt x="214" y="103"/>
                  <a:pt x="218" y="94"/>
                  <a:pt x="221" y="85"/>
                </a:cubicBezTo>
                <a:cubicBezTo>
                  <a:pt x="224" y="76"/>
                  <a:pt x="220" y="65"/>
                  <a:pt x="227" y="58"/>
                </a:cubicBezTo>
                <a:cubicBezTo>
                  <a:pt x="231" y="54"/>
                  <a:pt x="230" y="69"/>
                  <a:pt x="232" y="74"/>
                </a:cubicBezTo>
                <a:cubicBezTo>
                  <a:pt x="235" y="81"/>
                  <a:pt x="239" y="88"/>
                  <a:pt x="243" y="95"/>
                </a:cubicBezTo>
                <a:cubicBezTo>
                  <a:pt x="257" y="121"/>
                  <a:pt x="268" y="134"/>
                  <a:pt x="296" y="144"/>
                </a:cubicBezTo>
                <a:cubicBezTo>
                  <a:pt x="316" y="140"/>
                  <a:pt x="338" y="142"/>
                  <a:pt x="356" y="133"/>
                </a:cubicBezTo>
                <a:cubicBezTo>
                  <a:pt x="362" y="130"/>
                  <a:pt x="361" y="112"/>
                  <a:pt x="361" y="112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763640" y="1484280"/>
            <a:ext cx="590760" cy="301680"/>
          </a:xfrm>
          <a:custGeom>
            <a:avLst/>
            <a:gdLst/>
            <a:ahLst/>
            <a:rect l="l" t="t" r="r" b="b"/>
            <a:pathLst>
              <a:path w="372" h="190">
                <a:moveTo>
                  <a:pt x="6" y="23"/>
                </a:moveTo>
                <a:cubicBezTo>
                  <a:pt x="39" y="0"/>
                  <a:pt x="44" y="1"/>
                  <a:pt x="87" y="7"/>
                </a:cubicBezTo>
                <a:cubicBezTo>
                  <a:pt x="78" y="85"/>
                  <a:pt x="84" y="55"/>
                  <a:pt x="33" y="87"/>
                </a:cubicBezTo>
                <a:cubicBezTo>
                  <a:pt x="23" y="115"/>
                  <a:pt x="0" y="133"/>
                  <a:pt x="22" y="168"/>
                </a:cubicBezTo>
                <a:cubicBezTo>
                  <a:pt x="24" y="171"/>
                  <a:pt x="82" y="187"/>
                  <a:pt x="92" y="190"/>
                </a:cubicBezTo>
                <a:cubicBezTo>
                  <a:pt x="101" y="188"/>
                  <a:pt x="112" y="190"/>
                  <a:pt x="119" y="184"/>
                </a:cubicBezTo>
                <a:cubicBezTo>
                  <a:pt x="129" y="176"/>
                  <a:pt x="141" y="152"/>
                  <a:pt x="141" y="152"/>
                </a:cubicBezTo>
                <a:cubicBezTo>
                  <a:pt x="144" y="141"/>
                  <a:pt x="149" y="109"/>
                  <a:pt x="151" y="120"/>
                </a:cubicBezTo>
                <a:cubicBezTo>
                  <a:pt x="155" y="136"/>
                  <a:pt x="148" y="159"/>
                  <a:pt x="162" y="168"/>
                </a:cubicBezTo>
                <a:cubicBezTo>
                  <a:pt x="167" y="172"/>
                  <a:pt x="173" y="175"/>
                  <a:pt x="178" y="179"/>
                </a:cubicBezTo>
                <a:cubicBezTo>
                  <a:pt x="198" y="177"/>
                  <a:pt x="221" y="186"/>
                  <a:pt x="237" y="174"/>
                </a:cubicBezTo>
                <a:cubicBezTo>
                  <a:pt x="250" y="164"/>
                  <a:pt x="244" y="141"/>
                  <a:pt x="248" y="125"/>
                </a:cubicBezTo>
                <a:cubicBezTo>
                  <a:pt x="255" y="96"/>
                  <a:pt x="266" y="67"/>
                  <a:pt x="275" y="39"/>
                </a:cubicBezTo>
                <a:cubicBezTo>
                  <a:pt x="278" y="86"/>
                  <a:pt x="271" y="155"/>
                  <a:pt x="318" y="184"/>
                </a:cubicBezTo>
                <a:cubicBezTo>
                  <a:pt x="332" y="182"/>
                  <a:pt x="348" y="184"/>
                  <a:pt x="361" y="179"/>
                </a:cubicBezTo>
                <a:cubicBezTo>
                  <a:pt x="367" y="177"/>
                  <a:pt x="372" y="163"/>
                  <a:pt x="372" y="163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519360" y="1461960"/>
            <a:ext cx="1135080" cy="312840"/>
          </a:xfrm>
          <a:custGeom>
            <a:avLst/>
            <a:gdLst/>
            <a:ahLst/>
            <a:rect l="l" t="t" r="r" b="b"/>
            <a:pathLst>
              <a:path w="715" h="197">
                <a:moveTo>
                  <a:pt x="1" y="0"/>
                </a:moveTo>
                <a:cubicBezTo>
                  <a:pt x="6" y="83"/>
                  <a:pt x="0" y="118"/>
                  <a:pt x="12" y="59"/>
                </a:cubicBezTo>
                <a:cubicBezTo>
                  <a:pt x="14" y="50"/>
                  <a:pt x="13" y="40"/>
                  <a:pt x="17" y="32"/>
                </a:cubicBezTo>
                <a:cubicBezTo>
                  <a:pt x="22" y="23"/>
                  <a:pt x="40" y="19"/>
                  <a:pt x="49" y="16"/>
                </a:cubicBezTo>
                <a:cubicBezTo>
                  <a:pt x="103" y="36"/>
                  <a:pt x="83" y="63"/>
                  <a:pt x="87" y="129"/>
                </a:cubicBezTo>
                <a:cubicBezTo>
                  <a:pt x="107" y="127"/>
                  <a:pt x="127" y="129"/>
                  <a:pt x="146" y="123"/>
                </a:cubicBezTo>
                <a:cubicBezTo>
                  <a:pt x="160" y="119"/>
                  <a:pt x="172" y="41"/>
                  <a:pt x="179" y="16"/>
                </a:cubicBezTo>
                <a:cubicBezTo>
                  <a:pt x="190" y="61"/>
                  <a:pt x="187" y="39"/>
                  <a:pt x="179" y="118"/>
                </a:cubicBezTo>
                <a:cubicBezTo>
                  <a:pt x="178" y="129"/>
                  <a:pt x="170" y="140"/>
                  <a:pt x="173" y="150"/>
                </a:cubicBezTo>
                <a:cubicBezTo>
                  <a:pt x="175" y="156"/>
                  <a:pt x="180" y="139"/>
                  <a:pt x="184" y="134"/>
                </a:cubicBezTo>
                <a:cubicBezTo>
                  <a:pt x="185" y="125"/>
                  <a:pt x="184" y="39"/>
                  <a:pt x="200" y="26"/>
                </a:cubicBezTo>
                <a:cubicBezTo>
                  <a:pt x="206" y="21"/>
                  <a:pt x="215" y="23"/>
                  <a:pt x="222" y="21"/>
                </a:cubicBezTo>
                <a:cubicBezTo>
                  <a:pt x="258" y="26"/>
                  <a:pt x="268" y="25"/>
                  <a:pt x="281" y="59"/>
                </a:cubicBezTo>
                <a:cubicBezTo>
                  <a:pt x="273" y="158"/>
                  <a:pt x="285" y="141"/>
                  <a:pt x="189" y="134"/>
                </a:cubicBezTo>
                <a:cubicBezTo>
                  <a:pt x="213" y="138"/>
                  <a:pt x="236" y="143"/>
                  <a:pt x="259" y="150"/>
                </a:cubicBezTo>
                <a:cubicBezTo>
                  <a:pt x="323" y="144"/>
                  <a:pt x="308" y="155"/>
                  <a:pt x="324" y="113"/>
                </a:cubicBezTo>
                <a:cubicBezTo>
                  <a:pt x="334" y="31"/>
                  <a:pt x="325" y="82"/>
                  <a:pt x="335" y="134"/>
                </a:cubicBezTo>
                <a:cubicBezTo>
                  <a:pt x="339" y="152"/>
                  <a:pt x="348" y="151"/>
                  <a:pt x="362" y="156"/>
                </a:cubicBezTo>
                <a:cubicBezTo>
                  <a:pt x="374" y="154"/>
                  <a:pt x="388" y="157"/>
                  <a:pt x="399" y="150"/>
                </a:cubicBezTo>
                <a:cubicBezTo>
                  <a:pt x="410" y="143"/>
                  <a:pt x="421" y="118"/>
                  <a:pt x="421" y="118"/>
                </a:cubicBezTo>
                <a:cubicBezTo>
                  <a:pt x="423" y="134"/>
                  <a:pt x="413" y="157"/>
                  <a:pt x="426" y="166"/>
                </a:cubicBezTo>
                <a:cubicBezTo>
                  <a:pt x="472" y="197"/>
                  <a:pt x="492" y="156"/>
                  <a:pt x="502" y="129"/>
                </a:cubicBezTo>
                <a:cubicBezTo>
                  <a:pt x="515" y="33"/>
                  <a:pt x="482" y="147"/>
                  <a:pt x="528" y="161"/>
                </a:cubicBezTo>
                <a:cubicBezTo>
                  <a:pt x="590" y="152"/>
                  <a:pt x="539" y="169"/>
                  <a:pt x="571" y="123"/>
                </a:cubicBezTo>
                <a:cubicBezTo>
                  <a:pt x="578" y="112"/>
                  <a:pt x="593" y="91"/>
                  <a:pt x="593" y="91"/>
                </a:cubicBezTo>
                <a:cubicBezTo>
                  <a:pt x="599" y="71"/>
                  <a:pt x="608" y="54"/>
                  <a:pt x="620" y="37"/>
                </a:cubicBezTo>
                <a:cubicBezTo>
                  <a:pt x="623" y="29"/>
                  <a:pt x="627" y="2"/>
                  <a:pt x="631" y="37"/>
                </a:cubicBezTo>
                <a:cubicBezTo>
                  <a:pt x="631" y="39"/>
                  <a:pt x="628" y="113"/>
                  <a:pt x="641" y="139"/>
                </a:cubicBezTo>
                <a:cubicBezTo>
                  <a:pt x="649" y="154"/>
                  <a:pt x="685" y="166"/>
                  <a:pt x="685" y="166"/>
                </a:cubicBezTo>
                <a:cubicBezTo>
                  <a:pt x="694" y="164"/>
                  <a:pt x="705" y="167"/>
                  <a:pt x="711" y="161"/>
                </a:cubicBezTo>
                <a:cubicBezTo>
                  <a:pt x="715" y="157"/>
                  <a:pt x="695" y="156"/>
                  <a:pt x="695" y="156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041880" y="1528920"/>
            <a:ext cx="900360" cy="336240"/>
          </a:xfrm>
          <a:custGeom>
            <a:avLst/>
            <a:gdLst/>
            <a:ahLst/>
            <a:rect l="l" t="t" r="r" b="b"/>
            <a:pathLst>
              <a:path w="567" h="212">
                <a:moveTo>
                  <a:pt x="113" y="28"/>
                </a:moveTo>
                <a:cubicBezTo>
                  <a:pt x="72" y="0"/>
                  <a:pt x="64" y="12"/>
                  <a:pt x="0" y="17"/>
                </a:cubicBezTo>
                <a:cubicBezTo>
                  <a:pt x="2" y="44"/>
                  <a:pt x="1" y="71"/>
                  <a:pt x="5" y="97"/>
                </a:cubicBezTo>
                <a:cubicBezTo>
                  <a:pt x="8" y="114"/>
                  <a:pt x="48" y="124"/>
                  <a:pt x="48" y="124"/>
                </a:cubicBezTo>
                <a:cubicBezTo>
                  <a:pt x="84" y="147"/>
                  <a:pt x="137" y="153"/>
                  <a:pt x="161" y="114"/>
                </a:cubicBezTo>
                <a:cubicBezTo>
                  <a:pt x="163" y="96"/>
                  <a:pt x="164" y="78"/>
                  <a:pt x="167" y="60"/>
                </a:cubicBezTo>
                <a:cubicBezTo>
                  <a:pt x="168" y="54"/>
                  <a:pt x="166" y="44"/>
                  <a:pt x="172" y="44"/>
                </a:cubicBezTo>
                <a:cubicBezTo>
                  <a:pt x="182" y="44"/>
                  <a:pt x="193" y="71"/>
                  <a:pt x="199" y="76"/>
                </a:cubicBezTo>
                <a:cubicBezTo>
                  <a:pt x="209" y="84"/>
                  <a:pt x="235" y="88"/>
                  <a:pt x="248" y="92"/>
                </a:cubicBezTo>
                <a:cubicBezTo>
                  <a:pt x="276" y="83"/>
                  <a:pt x="271" y="62"/>
                  <a:pt x="280" y="38"/>
                </a:cubicBezTo>
                <a:cubicBezTo>
                  <a:pt x="278" y="90"/>
                  <a:pt x="295" y="146"/>
                  <a:pt x="274" y="194"/>
                </a:cubicBezTo>
                <a:cubicBezTo>
                  <a:pt x="266" y="212"/>
                  <a:pt x="230" y="201"/>
                  <a:pt x="215" y="189"/>
                </a:cubicBezTo>
                <a:cubicBezTo>
                  <a:pt x="178" y="159"/>
                  <a:pt x="258" y="133"/>
                  <a:pt x="269" y="130"/>
                </a:cubicBezTo>
                <a:cubicBezTo>
                  <a:pt x="297" y="111"/>
                  <a:pt x="303" y="85"/>
                  <a:pt x="312" y="54"/>
                </a:cubicBezTo>
                <a:cubicBezTo>
                  <a:pt x="319" y="73"/>
                  <a:pt x="311" y="97"/>
                  <a:pt x="323" y="114"/>
                </a:cubicBezTo>
                <a:cubicBezTo>
                  <a:pt x="329" y="123"/>
                  <a:pt x="355" y="124"/>
                  <a:pt x="355" y="124"/>
                </a:cubicBezTo>
                <a:cubicBezTo>
                  <a:pt x="368" y="122"/>
                  <a:pt x="388" y="131"/>
                  <a:pt x="393" y="119"/>
                </a:cubicBezTo>
                <a:cubicBezTo>
                  <a:pt x="402" y="97"/>
                  <a:pt x="387" y="26"/>
                  <a:pt x="387" y="49"/>
                </a:cubicBezTo>
                <a:cubicBezTo>
                  <a:pt x="387" y="132"/>
                  <a:pt x="372" y="116"/>
                  <a:pt x="409" y="141"/>
                </a:cubicBezTo>
                <a:cubicBezTo>
                  <a:pt x="452" y="135"/>
                  <a:pt x="456" y="140"/>
                  <a:pt x="468" y="103"/>
                </a:cubicBezTo>
                <a:cubicBezTo>
                  <a:pt x="483" y="125"/>
                  <a:pt x="491" y="129"/>
                  <a:pt x="517" y="135"/>
                </a:cubicBezTo>
                <a:cubicBezTo>
                  <a:pt x="567" y="123"/>
                  <a:pt x="547" y="169"/>
                  <a:pt x="544" y="205"/>
                </a:cubicBezTo>
                <a:cubicBezTo>
                  <a:pt x="534" y="203"/>
                  <a:pt x="507" y="197"/>
                  <a:pt x="506" y="194"/>
                </a:cubicBezTo>
                <a:cubicBezTo>
                  <a:pt x="494" y="152"/>
                  <a:pt x="527" y="157"/>
                  <a:pt x="554" y="157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ff"/>
                </a:solidFill>
                <a:latin typeface="Arial"/>
              </a:rPr>
              <a:t>Физкультминутк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971640" y="1844640"/>
            <a:ext cx="892080" cy="223200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324000" y="189000"/>
            <a:ext cx="1085760" cy="127620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3"/>
          <a:stretch/>
        </p:blipFill>
        <p:spPr>
          <a:xfrm>
            <a:off x="3059280" y="1773360"/>
            <a:ext cx="3336840" cy="367164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4"/>
          <a:stretch/>
        </p:blipFill>
        <p:spPr>
          <a:xfrm>
            <a:off x="6804000" y="4941720"/>
            <a:ext cx="1655640" cy="12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6130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ff"/>
                </a:solidFill>
                <a:latin typeface="Arial"/>
              </a:rPr>
              <a:t>Сергей Есенин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А кругом роса жемчужная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Отливала блестки алые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И над озером серебряным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Камыши, склонясь, шепталися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6635880" y="0"/>
            <a:ext cx="2508120" cy="25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569916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ff"/>
                </a:solidFill>
                <a:latin typeface="Arial"/>
              </a:rPr>
              <a:t>Работа в парах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.(…)  утром приятно побродить по лесу, подышать (…)воздухом. 2. С (…) утра и до (…)ночи слышится (…)пение птиц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Прилагательные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: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летний, свежий, ранний, поздний, чудесный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6732720" y="0"/>
            <a:ext cx="2411280" cy="150012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>
            <a:off x="7740720" y="5229360"/>
            <a:ext cx="1158840" cy="15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ff"/>
                </a:solidFill>
                <a:latin typeface="Arial"/>
              </a:rPr>
              <a:t>Проверка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Летним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утром приятно побродить по лесу, подышать 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свежим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воздухом. 2. С 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раннего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утра и до 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поздней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ночи слышится 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чудесное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пение птиц.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ff"/>
                </a:solidFill>
                <a:latin typeface="Arial"/>
              </a:rPr>
              <a:t>Схема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91440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1280" y="1125360"/>
            <a:ext cx="4464360" cy="9144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Имя прилагательно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79280" y="2565360"/>
            <a:ext cx="2592360" cy="79236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обозначае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95280" y="4724280"/>
            <a:ext cx="4175280" cy="79236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является в предложен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492360" y="2781360"/>
            <a:ext cx="3527640" cy="9144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твечает на вопрос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985080" y="4076640"/>
            <a:ext cx="2158920" cy="9144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зменяетс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95280" y="3573360"/>
            <a:ext cx="1873080" cy="914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1547640" y="2060640"/>
            <a:ext cx="122400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332000" y="3357720"/>
            <a:ext cx="0" cy="21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2484360" y="2060640"/>
            <a:ext cx="1224000" cy="2663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4932360" y="2060640"/>
            <a:ext cx="7128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900000" y="5805360"/>
            <a:ext cx="2210040" cy="914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124000" y="5516640"/>
            <a:ext cx="0" cy="288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572000" y="3933720"/>
            <a:ext cx="2089080" cy="914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580000" y="3716280"/>
            <a:ext cx="0" cy="217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732720" y="2060640"/>
            <a:ext cx="1368360" cy="20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164360" y="5300640"/>
            <a:ext cx="1994040" cy="914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8172360" y="5013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ff"/>
                </a:solidFill>
                <a:latin typeface="Arial"/>
              </a:rPr>
              <a:t>Рефлекс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Дополни текст именами  прилагательны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от и подошел к концу _______________ урок русского языка. Мы повторили все, что знали об имени прилагательном. Благодаря этим словам наша речь становится _____________________  . Мои одноклассники  были __________________. Они давали______________ответы. На уроке я узнал много _____________ и __________________. Результат выполненных мною заданий ________. Своей работой на уроке я _______________.     И сейчас у меня _______________  настроени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ff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08000" y="1052280"/>
            <a:ext cx="907416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добрать как можно больше эпитетов к слову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 ряд –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СНЕГ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2 ряд –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ЗИМ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3 ряд –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УТР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Arial"/>
              </a:rPr>
              <a:t>2.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на выбор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)Составить текст-описание, используя прилагательны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) сочинить четверостишие, используя эпитет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Работа в парах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Улыбнемся, создадим                         настроение))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835280" y="2276640"/>
            <a:ext cx="1441440" cy="110484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4243320" y="3243240"/>
            <a:ext cx="1841400" cy="10414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2268360" y="4724280"/>
            <a:ext cx="1872000" cy="103212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4"/>
          <a:stretch/>
        </p:blipFill>
        <p:spPr>
          <a:xfrm>
            <a:off x="7164360" y="2492280"/>
            <a:ext cx="1152720" cy="6368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5"/>
          <a:stretch/>
        </p:blipFill>
        <p:spPr>
          <a:xfrm>
            <a:off x="5508720" y="5157720"/>
            <a:ext cx="1079280" cy="89532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6"/>
          <a:stretch/>
        </p:blipFill>
        <p:spPr>
          <a:xfrm>
            <a:off x="755640" y="3860640"/>
            <a:ext cx="1512720" cy="87804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7"/>
          <a:stretch/>
        </p:blipFill>
        <p:spPr>
          <a:xfrm>
            <a:off x="4140360" y="1844640"/>
            <a:ext cx="2303280" cy="7462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8"/>
          <a:stretch/>
        </p:blipFill>
        <p:spPr>
          <a:xfrm>
            <a:off x="0" y="907920"/>
            <a:ext cx="3527280" cy="5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ff"/>
                </a:solidFill>
                <a:latin typeface="Arial"/>
              </a:rPr>
              <a:t>Прочитайте, сравните их и скажите, чем различаются эти тексты?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то хоть раз бывал в лесу, наверняка слышал стук. Это дятел. Птица с перышками. У птицы этой клюв.  Часть времени дятел проводит в поисках насекомых. Он лечит деревья.  И поэтому считают, что  дятел — это лекарь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42920" y="1628640"/>
            <a:ext cx="4388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то хоть раз бывал в лесу, наверняка слышал глухой ритмичный стук. Это дятел. Чёрная птица с яркими, красными перышками. У птицы этой сильный острый прямой клюв. Большую часть времени дятел проводит в поисках вредных насекомых. Он лечит больные деревья.  И поэтому считают, что  дятел — это лесной лекарь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Укажите слова, благодаря которым описание дятла более точное.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то хоть раз бывал в лесу, наверняка слышал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глухой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66ffff"/>
                </a:solidFill>
                <a:latin typeface="Arial"/>
              </a:rPr>
              <a:t>ритмичный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стук. Это дятел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ёрная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птица с 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яркими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красными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перышками. У птицы этой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сильный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99ff99"/>
                </a:solidFill>
                <a:latin typeface="Arial"/>
              </a:rPr>
              <a:t>острый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9900ff"/>
                </a:solidFill>
                <a:latin typeface="Arial"/>
              </a:rPr>
              <a:t>прямой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клюв. 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Большую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часть времени дятел проводит в поисках </a:t>
            </a: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вредных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насекомых. Он лечит </a:t>
            </a:r>
            <a:r>
              <a:rPr b="0" lang="en-US" sz="3200" spc="-1" strike="noStrike">
                <a:solidFill>
                  <a:srgbClr val="990099"/>
                </a:solidFill>
                <a:latin typeface="Arial"/>
              </a:rPr>
              <a:t>больные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деревья.  И поэтому считают, что  дятел — это </a:t>
            </a:r>
            <a:r>
              <a:rPr b="0" lang="en-US" sz="3200" spc="-1" strike="noStrike">
                <a:solidFill>
                  <a:srgbClr val="cccc00"/>
                </a:solidFill>
                <a:latin typeface="Arial"/>
              </a:rPr>
              <a:t>лесной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лекарь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Тема урок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971640" y="1628640"/>
            <a:ext cx="7200720" cy="208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Имя прилагательное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2124000" y="4221000"/>
            <a:ext cx="496908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как часть речи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ff"/>
                </a:solidFill>
                <a:latin typeface="Arial"/>
              </a:rPr>
              <a:t>Цели урока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94920" y="980640"/>
            <a:ext cx="865188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систематизировать полученные в начальной школе  сведения об имени прилагательном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2. развивать  умения  анализировать и характеризовать значение, морфологические признаки имени прилагательного, его синтаксическую роль.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ff"/>
                </a:solidFill>
                <a:latin typeface="Arial"/>
              </a:rPr>
              <a:t>Лингвистическая разминка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0" y="1052280"/>
            <a:ext cx="91440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Найди лишнее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Светло-зеленый, розоватый, розоветь, розовенький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Белый, белизна, бел, белый-пребелый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ff"/>
                </a:solidFill>
                <a:latin typeface="Arial"/>
              </a:rPr>
              <a:t>Спишите, вставьте окончания в имена прилагательные.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Глух.., ритмичн..  стук, лесн...  царь, лесн... птица, длинн... клюв, голуб... небо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3419640" y="5157720"/>
            <a:ext cx="1657080" cy="15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178920" y="475920"/>
            <a:ext cx="8713800" cy="56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ffff"/>
                </a:solidFill>
                <a:latin typeface="Arial"/>
              </a:rPr>
              <a:t>Прилагательные согласуются  с существительными в </a:t>
            </a:r>
            <a:r>
              <a:rPr b="0" lang="en-US" sz="6000" spc="-1" strike="noStrike">
                <a:solidFill>
                  <a:srgbClr val="ff0066"/>
                </a:solidFill>
                <a:latin typeface="Arial"/>
              </a:rPr>
              <a:t>роде</a:t>
            </a:r>
            <a:r>
              <a:rPr b="0" lang="en-US" sz="6000" spc="-1" strike="noStrike">
                <a:solidFill>
                  <a:srgbClr val="66ffff"/>
                </a:solidFill>
                <a:latin typeface="Arial"/>
              </a:rPr>
              <a:t>, </a:t>
            </a:r>
            <a:r>
              <a:rPr b="0" lang="en-US" sz="6000" spc="-1" strike="noStrike">
                <a:solidFill>
                  <a:srgbClr val="ff0066"/>
                </a:solidFill>
                <a:latin typeface="Arial"/>
              </a:rPr>
              <a:t>числе</a:t>
            </a:r>
            <a:r>
              <a:rPr b="0" lang="en-US" sz="6000" spc="-1" strike="noStrike">
                <a:solidFill>
                  <a:srgbClr val="66ffff"/>
                </a:solidFill>
                <a:latin typeface="Arial"/>
              </a:rPr>
              <a:t> и </a:t>
            </a:r>
            <a:r>
              <a:rPr b="0" lang="en-US" sz="6000" spc="-1" strike="noStrike">
                <a:solidFill>
                  <a:srgbClr val="ff0066"/>
                </a:solidFill>
                <a:latin typeface="Arial"/>
              </a:rPr>
              <a:t>падеже</a:t>
            </a:r>
            <a:r>
              <a:rPr b="0" lang="en-US" sz="6000" spc="-1" strike="noStrike">
                <a:solidFill>
                  <a:srgbClr val="66ffff"/>
                </a:solidFill>
                <a:latin typeface="Arial"/>
              </a:rPr>
              <a:t>.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30T13:36:13Z</dcterms:created>
  <dc:creator>Админ</dc:creator>
  <dc:description/>
  <dc:language>en-US</dc:language>
  <cp:lastModifiedBy>02</cp:lastModifiedBy>
  <dcterms:modified xsi:type="dcterms:W3CDTF">2016-04-20T09:46:14Z</dcterms:modified>
  <cp:revision>4</cp:revision>
  <dc:subject/>
  <dc:title>Слайд 1</dc:title>
</cp:coreProperties>
</file>